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0AC-9170-473C-8BF2-9D2703BE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063-877A-4670-A3EF-FBFD51C4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6D8-BFF2-4E0F-932D-FBEA3694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51B-CBC6-4FC7-941B-B9CDF18C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B0D-B3E3-4E48-A682-21A035F3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771-9114-45C6-8EE7-EC94137D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0B2-DBDA-4AEE-958C-9DFF34F5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4EB-DB92-4235-92B4-AE8E8EA5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F79-9212-4481-B8F8-BA2A5F8A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62C-DA61-4512-A014-7070B1A0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B8D-A9F7-4CE9-860C-5B1BB34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83A-7E10-432F-AFFD-E94C5AEE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F529-C50F-4D60-A78D-3A0879E72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umer Demo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example indicates that three separate products might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must be significantl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enough potential customers in eac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 must be reached by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must be long-lasting to make it worth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etermines your ability to segment a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gmentation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product and marke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all the needs that future customers might have in the product and marke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at least three different market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what characteristics of the product of the product affect the “buy” decision of the consu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a name to each product market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each segment with demographic and other possible consumer-rela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ermination of Marketing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gments have been established, match these results to your marketing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your goals wrt this (these) product(s)(i.e., promotion or penet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development:  new or improved version (microwaveable vs. frozen 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velopment:  motivating people to buy the product (healthy vs. saturated f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diversification:  adding products to the product line (4 oz. fillets in garlic/lemon or Cajun 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ermination of Marketing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339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way to study the market and marketing goals is to look at the chances or possibilities for market growth and projected market sh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dentifies the best and worst products a firm has to off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Go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blend of “stars” and “cash cow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724280" y="1981080"/>
            <a:ext cx="40388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715000" y="2743200"/>
            <a:ext cx="25909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>
            <a:off x="7010280" y="27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5715000" y="3962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57800" y="2590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334120" y="49528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5257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858000" y="5257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8077320" y="5257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257800" y="3886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095880" y="5562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 Dom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 rot="16177200">
            <a:off x="3559320" y="37555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nual Market Growth Rate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943600" y="3200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943600" y="4267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7162920" y="3048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ion 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7391520" y="4495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5486400" y="6324480"/>
            <a:ext cx="2743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  Seperich et al.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imation of Market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everal methods of guessing or estimating possibilities in a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possibil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total number of sales possible in a target market for all produ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les fore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level of sales expected for a single firm within the target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sh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percentage of total sales gained by a single firm (SF/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imation of Market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determine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  factor approach vs. demo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approach:  uses a series of factors to discover the size of possible market sales for a specific product to achieve the sales 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gathering information about product usage and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 of Forecast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s sales as a percentage of some easily-obtained industry statistic (e.g., gross domestic product, retail 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stimates the firm’s proportion of total industry sales, work your way 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DP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3 tr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retail sales of food is 15% of GDP ($3 trillion x 0.15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450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markets (retailers) that buy seafood sell 12% of national retail food sales ($450 billion x 0.12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54 b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% of their sales are as seafood ($54 billion x 0.005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270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% of this is as grouper ($270 M x 0.15)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41 mill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 Way:  demographics or consumer-side fore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mographics show that people who would buy “glow-in-the-dark” grouper are:  highly educated, men, have high incomes, live in cities, live in the SW portion of the U.S. and are between 45 and 60 years old; you can estimate size of the mark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tion of the U.S. =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90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males is 50%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45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urban is 40%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8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in SW is 20%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.6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educated is 25%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.9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with high income is 25%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45-60 yrs of age is 10%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2,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7620120" y="5029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 Way:  demographics or consumer-side fore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2,5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tomers would buy “glow-in-the-dark” grou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ach consumes two pounds of grouper per month = 24 lbs/yr/customer x 72,500 customers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75 million l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market research via interviews indicates 20% customers would become regular consumers of GITD grouper, your sales forecast for the first year is 350,000 lbs of G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$10/lb, your sales forecast in $ i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$3.5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plans can’t but put together without some form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 match my company’s assets with good business opportun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ies =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analy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and measuring business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ing and dividing market into ni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ing product placement and position in mind of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requires a great deal of information about consum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research gives the marketing manager data needed to make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because managers are often hundreds or thousands of miles distant from end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analysis is the only way firms can stay in touch with customers and thei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over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large firms are moving away from “mass” marketing to “target”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marketing = production approach of looking at what most consumers want, assumes actions of all consumers are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marketing = mass production (low-cost, effective, easy), disposal of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lways leaves someone unhap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over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marketing:  consumer needs set the product characteristics and market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on efforts change to meet need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rge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s of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you grow grouper, but find out that processers want a variety of different sizes, species.  You then become flexible to meet their needs (same holds true for processors, their mar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needs = more sales, higher sales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over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marketing more costs, difficult to manage, but profitable to producer and pleasing to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 market edge because you offer what others ca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market analysis standpoint, a market is:  group of current or possible consumers with similar unmet needs and buying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in terms of consumer needs and not the product being sol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over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 consumer needs change slowly, products come and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old-style TV dinners vs microwaveable grouper Floren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 can’t please everyone on a global ba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ink regionally or local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marketing recognizes differences in needs:  for seafood, there are well-defined regional likes and disl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you possibly fill all the different needs in a profitable manner (you can’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umer Demo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defined area, the needs of consumers are often found to be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after having divided them into groups according to common descriptions (e.g., age, sex, household size, level of income, level of education, marriage stat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mo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dividing consumers into groups for easy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establish more specific consume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easily obtain for smaller vs. larger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umer Demo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tying consumer needs to demographic info it is possible to find special groups of consumers w/special needs (i.e., the targe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arch begins with listing consumer needs, advantages, benefits sought, likes, dislik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fairly specific, but not related to a currently-existing product (e.g., flavor vs. textu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>
            <a:off x="51814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5562720" y="28954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6781680" y="4724280"/>
            <a:ext cx="6858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7086600" y="32004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562720" y="5562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 (soft to tou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 rot="16179000">
            <a:off x="3628080" y="3838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vor (sweet to bi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33412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7011720" y="380988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7468920" y="502920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4724280" y="6248520"/>
            <a:ext cx="3733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 marketing would target dashed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6248520" y="3581280"/>
            <a:ext cx="91440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8:53:17Z</dcterms:created>
  <dc:creator/>
  <dc:description/>
  <dc:language>en-US</dc:language>
  <cp:lastModifiedBy>Bright</cp:lastModifiedBy>
  <dcterms:modified xsi:type="dcterms:W3CDTF">2013-08-23T08:17:37Z</dcterms:modified>
  <cp:revision>7</cp:revision>
  <dc:subject/>
  <dc:title>Market Analysis</dc:title>
</cp:coreProperties>
</file>